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7AE03-2A4A-43A4-B235-2158EDDCE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020B7-302D-484C-A554-DA547A62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102CA-2728-44DE-9857-FD9D640CA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EDE65-150B-4301-AE4C-70E68E1AD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1D9AE-189A-43B8-8BDE-8C50444B0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61A11-6D78-4407-947E-D19095465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7D845-BD93-4B59-A0B9-DFCFAB27E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526D3-5337-434D-9B5B-6984B53BD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5ED69-6562-4B66-81CB-E07592C3C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E60F3-7ADA-4CD6-9EB5-6C7100C2A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36BC8-2DCC-4C9A-BE0A-D3DBCCBBE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998CC-6DC2-48A4-874C-31E9D447E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AD48A-8DDE-415A-A284-6C4EADF0E147}"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AC8C6-DE99-41A9-B29E-D66DF10115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lidarity</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4" descr="Solidarity_logo.png"/>
          <p:cNvPicPr/>
          <p:nvPr/>
        </p:nvPicPr>
        <p:blipFill>
          <a:blip r:embed="rId1"/>
          <a:stretch/>
        </p:blipFill>
        <p:spPr>
          <a:xfrm>
            <a:off x="1644480" y="1389240"/>
            <a:ext cx="5962680" cy="30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IMS TODAY</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xplore the Solidarity movement in more detail using original footage and documentary evide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ork in pairs to explore the causes, events and consequences of the movem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oduce a factual report in ‘news sty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rter</a:t>
            </a:r>
            <a:endParaRPr b="0" lang="en-US" sz="4400" spc="-1" strike="noStrike">
              <a:solidFill>
                <a:srgbClr val="000000"/>
              </a:solidFill>
              <a:latin typeface="Calibri"/>
            </a:endParaRPr>
          </a:p>
        </p:txBody>
      </p:sp>
      <p:sp>
        <p:nvSpPr>
          <p:cNvPr id="47" name="Rectangle 3"/>
          <p:cNvSpPr/>
          <p:nvPr/>
        </p:nvSpPr>
        <p:spPr>
          <a:xfrm>
            <a:off x="1658880" y="3105000"/>
            <a:ext cx="57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CYpPgGDVxOU</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TextBox 4"/>
          <p:cNvSpPr/>
          <p:nvPr/>
        </p:nvSpPr>
        <p:spPr>
          <a:xfrm>
            <a:off x="2011320" y="1847880"/>
            <a:ext cx="48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ake notes as you wat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orking </a:t>
            </a:r>
            <a:br>
              <a:rPr sz="4000"/>
            </a:br>
            <a:r>
              <a:rPr b="0" lang="en-US" sz="4000" spc="-1" strike="noStrike">
                <a:solidFill>
                  <a:srgbClr val="000000"/>
                </a:solidFill>
                <a:latin typeface="Calibri"/>
              </a:rPr>
              <a:t>Partners</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orge and Brand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ergus and Joh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atherine and Christ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ulia and G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an and Cecil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essica and 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vy and Tomm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roduce a News Report on the Solidarity Movement</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need to include:</a:t>
            </a: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y there was unrest in Polan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he government attempted to control the Solidarity movemen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y the shipyard in Gdansk became famou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he Polish people showed their dissatisfaction with the governmen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he Soviet Union reacted to the challenge</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main personalities involved Lech Walesa, General Jaruzelski</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challenges Solidarity encountere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consequences ( successes ) of the movemen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Add dates, agreements and visuals to support the points that you make. Use your video notes and text book notes. Try to find the Soviet view of the events from ‘Prav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urce 1</a:t>
            </a:r>
            <a:br>
              <a:rPr sz="4000"/>
            </a:br>
            <a:r>
              <a:rPr b="0" lang="en-US" sz="4000" spc="-1" strike="noStrike">
                <a:solidFill>
                  <a:srgbClr val="000000"/>
                </a:solidFill>
                <a:latin typeface="Calibri"/>
              </a:rPr>
              <a:t>A message from America</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FkKVYjw1Ehc&amp;feature=relate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TextBox 3"/>
          <p:cNvSpPr/>
          <p:nvPr/>
        </p:nvSpPr>
        <p:spPr>
          <a:xfrm>
            <a:off x="2954160" y="2446200"/>
            <a:ext cx="515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ource 2</a:t>
            </a:r>
            <a:br>
              <a:rPr sz="3600"/>
            </a:br>
            <a:r>
              <a:rPr b="0" lang="en-US" sz="3600" spc="-1" strike="noStrike">
                <a:solidFill>
                  <a:srgbClr val="000000"/>
                </a:solidFill>
                <a:latin typeface="Calibri"/>
              </a:rPr>
              <a:t>As it happened…</a:t>
            </a:r>
            <a:endParaRPr b="0" lang="en-US" sz="3600" spc="-1" strike="noStrike">
              <a:solidFill>
                <a:srgbClr val="000000"/>
              </a:solidFill>
              <a:latin typeface="Calibri"/>
            </a:endParaRPr>
          </a:p>
        </p:txBody>
      </p:sp>
      <p:sp>
        <p:nvSpPr>
          <p:cNvPr id="56" name="Rectangle 7"/>
          <p:cNvSpPr/>
          <p:nvPr/>
        </p:nvSpPr>
        <p:spPr>
          <a:xfrm>
            <a:off x="905040" y="4338720"/>
            <a:ext cx="778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qPLE3Y3gvMQ&amp;feature=rela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1:50:58Z</dcterms:created>
  <dc:creator>Rachel</dc:creator>
  <dc:description/>
  <dc:language>en-US</dc:language>
  <cp:lastModifiedBy>Rachel</cp:lastModifiedBy>
  <dcterms:modified xsi:type="dcterms:W3CDTF">2011-03-07T12:55:01Z</dcterms:modified>
  <cp:revision>1</cp:revision>
  <dc:subject/>
  <dc:title>Solidarity </dc:title>
</cp:coreProperties>
</file>